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50674-C3D5-4F4C-B823-43DEEFC6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5D9AC-9EB7-4595-81A5-4823EBE6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F0393-33E3-4230-9F19-33F9F1284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678D6-C584-425F-BCD0-9B8DA5DFE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0BAD9-9A02-4538-A6C6-03AD9669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A96F-BB3F-44A3-9715-BA11420A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AE1E-0B6A-45AF-B956-E39DEC37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3D4F-F2FD-48E1-9054-F5A4A00D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3895-EE20-4DCB-ABA4-707D6695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BCE6-1F78-4286-8471-F7506958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6B57-A287-40E8-B648-95425B51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8EB6-9244-4C78-8DEE-EB39402A4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E013-E560-47D7-A078-7E49C9E86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553600" y="6381720"/>
            <a:ext cx="1079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C527D39D-6FCD-4802-917C-93D33D2C36E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26920" y="2147760"/>
            <a:ext cx="833760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OBRAS DE TERRAPLENAGEM DE MÉDIO A GRANDE POR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ecução de serviços de terraplenagem. Execução combinada de obras de drenagem superficial e proteção vegetal (obras complementares aos serviços de terraplenagem). Obras de desvio e canalização de córregos. Predomínio de serviços mecanizad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41240" y="2219400"/>
            <a:ext cx="8502840" cy="213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ea typeface="Times New Roman"/>
              </a:rPr>
              <a:t>ESTRUTURAS DE CONTENÇÃO DE MÉDIO A GRANDE POR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Implantação de estruturas de contenção de médio a grande porte (h</a:t>
            </a:r>
            <a:r>
              <a:rPr b="1" lang="pt-BR" sz="2000" spc="-1" strike="noStrike" baseline="-30000">
                <a:solidFill>
                  <a:srgbClr val="000000"/>
                </a:solidFill>
                <a:latin typeface="Arial"/>
                <a:ea typeface="Times New Roman"/>
              </a:rPr>
              <a:t>max</a:t>
            </a:r>
            <a:r>
              <a:rPr b="1" lang="pt-BR" sz="2000" spc="-1" strike="noStrike">
                <a:solidFill>
                  <a:srgbClr val="000000"/>
                </a:solidFill>
                <a:latin typeface="Arial"/>
                <a:ea typeface="Times New Roman"/>
              </a:rPr>
              <a:t> &gt; 5 m e l</a:t>
            </a:r>
            <a:r>
              <a:rPr b="1" lang="pt-BR" sz="2000" spc="-1" strike="noStrike" baseline="-30000">
                <a:solidFill>
                  <a:srgbClr val="000000"/>
                </a:solidFill>
                <a:latin typeface="Arial"/>
                <a:ea typeface="Times New Roman"/>
              </a:rPr>
              <a:t>max</a:t>
            </a:r>
            <a:r>
              <a:rPr b="1" lang="pt-BR" sz="2000" spc="-1" strike="noStrike">
                <a:solidFill>
                  <a:srgbClr val="000000"/>
                </a:solidFill>
                <a:latin typeface="Arial"/>
                <a:ea typeface="Times New Roman"/>
              </a:rPr>
              <a:t> &gt; 10 m), envolvendo obras de contenção passivas e ativas (muros de gravidade, cortinas, etc.). Poderão envolver serviços complementares de terraplenagem. Predomínio de serviços mecanizad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209600" y="2236680"/>
            <a:ext cx="759456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ea typeface="Times New Roman"/>
              </a:rPr>
              <a:t>REMOÇÃO DE MORADI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As remoções poderão ser definitivas ou não (para implantação de uma obra, por exemplo). Priorizar eventuais relocações dentro da própria área ocupada, em local seg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84280" y="838080"/>
            <a:ext cx="8483400" cy="5139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Grau de Probabilidad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ea typeface="Times New Roman"/>
              </a:rPr>
              <a:t>R4 MUITO ALTO</a:t>
            </a:r>
            <a:r>
              <a:rPr b="1" lang="en-US" sz="2000" spc="-1" strike="noStrike">
                <a:solidFill>
                  <a:srgbClr val="ff6600"/>
                </a:solidFill>
                <a:latin typeface="Arial"/>
              </a:rPr>
              <a:t> </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s condicionantes geológico-geotécnicos predisponentes (declividade, tipo de terreno, etc.) e o nível de intervenção no setor são de MUITO ALTA POTENCIALIDADE para o desenvolvimento de processos de escorregamentos e solapament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 evidências de instabilidade (trincas no solo, degraus de abatimento em taludes, trincas em moradias ou em muros de contenção, árvores ou postes inclinados, cicatrizes de escorregamento, feições erosivas, proximidade da moradia em relação à margem de córregos, etc.) são expressivas e estão presentes em grande número e/ou magnitud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É a condição mais crítica.</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tidas as condições existentes, é muito provável a ocorrência de eventos destrutivos durante episódios de chuvas intensas e prolongadas, no período de 1 an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373040" y="1219320"/>
            <a:ext cx="7713720" cy="403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Grau de Probabilidad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ea typeface="Times New Roman"/>
              </a:rPr>
              <a:t>R3 ALTO</a:t>
            </a:r>
            <a:r>
              <a:rPr b="1" lang="en-US" sz="2000" spc="-1" strike="noStrike">
                <a:solidFill>
                  <a:srgbClr val="ff6600"/>
                </a:solidFill>
                <a:latin typeface="Arial"/>
              </a:rPr>
              <a:t> </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s condicionantes geológico-geotécnicos predisponentes (declividade, tipo de terreno, etc.) e o nível de intervenção no setor são de ALTA POTENCIALIDADE para o desenvolvimento de processos de escorregamentos e solapament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bserva-se a presença de significativa(s) evidência(s) de instabilidade (trincas no solo, degraus de abatimento em talude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tidas as condições existentes, é perfeitamente possível a ocorrência de eventos destrutivos durante episódios de chuvas intensas e prolongadas, no período de 1 ano.</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066680" y="1219320"/>
            <a:ext cx="8020080" cy="3760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Grau de Probabilidad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ea typeface="Times New Roman"/>
              </a:rPr>
              <a:t>R2 MÉDIO</a:t>
            </a:r>
            <a:r>
              <a:rPr b="1" lang="en-US" sz="2000" spc="-1" strike="noStrike">
                <a:solidFill>
                  <a:srgbClr val="ff6600"/>
                </a:solidFill>
                <a:latin typeface="Arial"/>
              </a:rPr>
              <a:t> </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s condicionantes geológico-geotécnicos predisponentes (declividade, tipo de terreno, etc.) e o nível de intervenção no setor são de MÉDIA POTENCIALIDADE para o desenvolvimento de processos de escorregamentos e solapament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bserva-se a presença de alguma(s) evidência(s) de instabilidade (encostas e margens de drenagens), porém incip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tidas as condições existentes, é reduzida a possibilidade de ocorrência de eventos destrutivos durante episódios de chuvas intensas e prolongadas, no período de 1 ano.</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143000" y="1219320"/>
            <a:ext cx="7943760" cy="396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ea typeface="Times New Roman"/>
              </a:rPr>
              <a:t> </a:t>
            </a:r>
            <a:r>
              <a:rPr b="1" i="1" lang="pt-BR" sz="2000" spc="-1" strike="noStrike">
                <a:solidFill>
                  <a:srgbClr val="ff0000"/>
                </a:solidFill>
                <a:latin typeface="Arial"/>
                <a:ea typeface="Times New Roman"/>
              </a:rPr>
              <a:t>Grau de Probabilidad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6600"/>
                </a:solidFill>
                <a:latin typeface="Arial"/>
                <a:ea typeface="Times New Roman"/>
              </a:rPr>
              <a:t>R1 BAIXO</a:t>
            </a:r>
            <a:r>
              <a:rPr b="1" lang="pt-BR" sz="2000" spc="-1" strike="noStrike">
                <a:solidFill>
                  <a:srgbClr val="ff6600"/>
                </a:solidFill>
                <a:latin typeface="Arial"/>
              </a:rPr>
              <a:t> OU SEM RISCO</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Os condicionantes geológico-geotécnicos predisponentes (declividade, tipo de terreno, etc.) e o nível de intervenção no setor são de BAIXA POTENCIALIDADE para o desenvolvimento de processos de escorregamentos e solapamen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Não há indícios de desenvolvimento de processos de instabilização de encostas e de margens de drenagen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É a condição menos crít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Mantidas as condições existentes, não se espera a ocorrência de eventos destrutivos no período de 1 ano.</a:t>
            </a:r>
            <a:r>
              <a:rPr b="1"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rcRect l="16405" t="13540" r="17970" b="7294"/>
          <a:stretch/>
        </p:blipFill>
        <p:spPr>
          <a:xfrm>
            <a:off x="1500120" y="738360"/>
            <a:ext cx="7047000" cy="5884560"/>
          </a:xfrm>
          <a:prstGeom prst="rect">
            <a:avLst/>
          </a:prstGeom>
          <a:ln w="38160">
            <a:solidFill>
              <a:srgbClr val="333399"/>
            </a:solidFill>
            <a:miter/>
          </a:ln>
        </p:spPr>
      </p:pic>
      <p:sp>
        <p:nvSpPr>
          <p:cNvPr id="61" name=""/>
          <p:cNvSpPr/>
          <p:nvPr/>
        </p:nvSpPr>
        <p:spPr>
          <a:xfrm>
            <a:off x="2301840" y="2048040"/>
            <a:ext cx="5381640" cy="28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2592360" y="990720"/>
            <a:ext cx="47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ES PARA O TRABALHO DE CAM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268280" y="1325520"/>
            <a:ext cx="7570800" cy="5294520"/>
          </a:xfrm>
          <a:prstGeom prst="rect">
            <a:avLst/>
          </a:prstGeom>
          <a:ln w="0">
            <a:noFill/>
          </a:ln>
        </p:spPr>
      </p:pic>
      <p:sp>
        <p:nvSpPr>
          <p:cNvPr id="44" name=""/>
          <p:cNvSpPr/>
          <p:nvPr/>
        </p:nvSpPr>
        <p:spPr>
          <a:xfrm>
            <a:off x="1143000" y="8380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TABELA RESUMO (CHECK LIST) DOS ITENS A SEREM OBSERVADOS</a:t>
            </a:r>
            <a:r>
              <a:rPr b="1"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30120" y="914400"/>
            <a:ext cx="8667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PARA CARACTERIZAR A DENSIDADE DA OCUPAÇÃO </a:t>
            </a:r>
            <a:r>
              <a:rPr b="1" lang="en-US" sz="1800" spc="-1" strike="noStrike">
                <a:solidFill>
                  <a:srgbClr val="333399"/>
                </a:solidFill>
                <a:latin typeface="Arial"/>
                <a:ea typeface="Times New Roman"/>
              </a:rPr>
              <a:t>E IMPLANTAÇÃO DE INFRA-ESTRUTURA BÁSICA UTILIZAR:</a:t>
            </a:r>
            <a:r>
              <a:rPr b="0" lang="en-US" sz="1800" spc="-1" strike="noStrike">
                <a:solidFill>
                  <a:srgbClr val="333399"/>
                </a:solidFill>
                <a:latin typeface="Arial"/>
              </a:rPr>
              <a:t> </a:t>
            </a:r>
            <a:endParaRPr b="0" lang="en-US" sz="1800" spc="-1" strike="noStrike">
              <a:solidFill>
                <a:srgbClr val="000000"/>
              </a:solidFill>
              <a:latin typeface="Arial"/>
            </a:endParaRPr>
          </a:p>
        </p:txBody>
      </p:sp>
      <p:sp>
        <p:nvSpPr>
          <p:cNvPr id="46" name=""/>
          <p:cNvSpPr/>
          <p:nvPr/>
        </p:nvSpPr>
        <p:spPr>
          <a:xfrm>
            <a:off x="909720" y="1981080"/>
            <a:ext cx="8254800" cy="368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EGORIA DE OCUPAÇÃO</a:t>
            </a:r>
            <a:r>
              <a:rPr b="1" lang="en-US" sz="1800" spc="-1" strike="noStrike">
                <a:solidFill>
                  <a:srgbClr val="000000"/>
                </a:solidFill>
                <a:latin typeface="Times New Roman"/>
              </a:rPr>
              <a:t>/</a:t>
            </a:r>
            <a:r>
              <a:rPr b="1" lang="en-US" sz="1800" spc="-1" strike="noStrike">
                <a:solidFill>
                  <a:srgbClr val="000000"/>
                </a:solidFill>
                <a:latin typeface="Arial"/>
                <a:ea typeface="Arial"/>
              </a:rPr>
              <a:t>CARACTERÍSTICAS</a:t>
            </a:r>
            <a:r>
              <a:rPr b="1" lang="en-US" sz="1800" spc="-1" strike="noStrike">
                <a:solidFill>
                  <a:srgbClr val="000000"/>
                </a:solidFill>
                <a:latin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Área consolidada</a:t>
            </a:r>
            <a:r>
              <a:rPr b="1" lang="en-US" sz="1800" spc="-1" strike="noStrike">
                <a:solidFill>
                  <a:srgbClr val="000000"/>
                </a:solidFill>
                <a:latin typeface="Times New Roman"/>
              </a:rPr>
              <a:t>: </a:t>
            </a:r>
            <a:r>
              <a:rPr b="1" lang="en-US" sz="1800" spc="-1" strike="noStrike">
                <a:solidFill>
                  <a:srgbClr val="000000"/>
                </a:solidFill>
                <a:latin typeface="Arial"/>
                <a:ea typeface="Arial"/>
              </a:rPr>
              <a:t>Áreas densamente ocupadas, com infra-estrutura básica</a:t>
            </a:r>
            <a:r>
              <a:rPr b="1" lang="en-US" sz="1800" spc="-1" strike="noStrike">
                <a:solidFill>
                  <a:srgbClr val="000000"/>
                </a:solidFill>
                <a:latin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Área parcialmente consolidada</a:t>
            </a:r>
            <a:r>
              <a:rPr b="1" lang="en-US" sz="1800" spc="-1" strike="noStrike">
                <a:solidFill>
                  <a:srgbClr val="000000"/>
                </a:solidFill>
                <a:latin typeface="Times New Roman"/>
              </a:rPr>
              <a:t>: </a:t>
            </a:r>
            <a:r>
              <a:rPr b="1" lang="en-US" sz="1800" spc="-1" strike="noStrike">
                <a:solidFill>
                  <a:srgbClr val="000000"/>
                </a:solidFill>
                <a:latin typeface="Arial"/>
                <a:ea typeface="Arial"/>
              </a:rPr>
              <a:t>Áreas em processo de ocupação, adjacentes a áreas de ocupação consolidada. Densidade da ocupação variando de 30% a 90%. Razoável infra-estrutura básica.</a:t>
            </a:r>
            <a:r>
              <a:rPr b="1" lang="en-US" sz="1800" spc="-1" strike="noStrike">
                <a:solidFill>
                  <a:srgbClr val="000000"/>
                </a:solidFill>
                <a:latin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Área parcelada</a:t>
            </a:r>
            <a:r>
              <a:rPr b="1" lang="en-US" sz="1800" spc="-1" strike="noStrike">
                <a:solidFill>
                  <a:srgbClr val="000000"/>
                </a:solidFill>
                <a:latin typeface="Times New Roman"/>
              </a:rPr>
              <a:t>: </a:t>
            </a:r>
            <a:r>
              <a:rPr b="1" lang="en-US" sz="1800" spc="-1" strike="noStrike">
                <a:solidFill>
                  <a:srgbClr val="000000"/>
                </a:solidFill>
                <a:latin typeface="Arial"/>
                <a:ea typeface="Arial"/>
              </a:rPr>
              <a:t>Áreas de expansão, periféricas e distantes de núcleo urbanizado. Baixa densidade de ocupação (até 30%). Desprovidas de infra-estrutura básica</a:t>
            </a:r>
            <a:r>
              <a:rPr b="1" lang="en-US" sz="1800" spc="-1" strike="noStrike">
                <a:solidFill>
                  <a:srgbClr val="000000"/>
                </a:solidFill>
                <a:latin typeface="Times New Roman"/>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Área mista</a:t>
            </a:r>
            <a:r>
              <a:rPr b="1" lang="en-US" sz="1800" spc="-1" strike="noStrike">
                <a:solidFill>
                  <a:srgbClr val="000000"/>
                </a:solidFill>
                <a:latin typeface="Times New Roman"/>
              </a:rPr>
              <a:t>: </a:t>
            </a:r>
            <a:r>
              <a:rPr b="1" lang="en-US" sz="1800" spc="-1" strike="noStrike">
                <a:solidFill>
                  <a:srgbClr val="000000"/>
                </a:solidFill>
                <a:latin typeface="Arial"/>
                <a:ea typeface="Arial"/>
              </a:rPr>
              <a:t>Nesses casos, caracterizar a área quanto a densidade de ocupação e quanto a implantação de infra-estrutura básica</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07960" y="907920"/>
            <a:ext cx="908064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ea typeface="Times New Roman"/>
              </a:rPr>
              <a:t>TIPOLOGIA DE INTERVENÇÕES VOLTADAS À REDUÇÃO DE RISCOS ASSOCIADOS A ESCORREGAMENTOS EM ENCOSTAS OCUPADAS E A SOLAPAMENTOS DE MARGENS DE CÓRREG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Serviços de limpeza e recuperação</a:t>
            </a:r>
            <a:r>
              <a:rPr b="1" lang="pt-B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Obras de drenagem  superficial, proteção vegetal (gramíneas) e desmonte de blocos</a:t>
            </a:r>
            <a:r>
              <a:rPr b="1" lang="pt-B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Obras de drenagem de subsuperfície</a:t>
            </a:r>
            <a:r>
              <a:rPr b="1" lang="pt-B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Estruturas de contenção localizadas ou linea</a:t>
            </a:r>
            <a:r>
              <a:rPr b="1" lang="pt-BR" sz="1800" spc="-1" strike="noStrike">
                <a:solidFill>
                  <a:srgbClr val="000000"/>
                </a:solidFill>
                <a:latin typeface="Arial"/>
              </a:rPr>
              <a:t>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Obras de terraplenagem de médio a grande porte</a:t>
            </a:r>
            <a:r>
              <a:rPr b="1" lang="pt-B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Estruturas de contenção de médio a grande porte</a:t>
            </a:r>
            <a:r>
              <a:rPr b="1" lang="pt-B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Remoção de moradias</a:t>
            </a:r>
            <a:r>
              <a:rPr b="1"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33400" y="990720"/>
            <a:ext cx="7264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19000" y="1752480"/>
            <a:ext cx="8255160" cy="208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SERVIÇOS DE LIMPEZA E RECUPERAÇÃO</a:t>
            </a:r>
            <a:r>
              <a:rPr b="1" lang="en-US" sz="2000" spc="-1" strike="noStrike">
                <a:solidFill>
                  <a:srgbClr val="333399"/>
                </a:solidFill>
                <a:latin typeface="Arial"/>
              </a:rPr>
              <a:t> </a:t>
            </a:r>
            <a:r>
              <a:rPr b="1" lang="en-US" sz="2000" spc="-1" strike="noStrike">
                <a:solidFill>
                  <a:srgbClr val="333399"/>
                </a:solidFill>
                <a:latin typeface="Arial"/>
                <a:ea typeface="Times New Roman"/>
              </a:rPr>
              <a:t>OBRAS DE DRENAGEM</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iços de limpeza de entulho, lixo, etc. Recuperação e/ou limpeza de sistemas de drenagem, esgotos e acessos. Também incluem obras de limpeza de canais de drenagem. Correspondem a serviços manuais e/ou utilizando maquinário de pequeno p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19000" y="1371600"/>
            <a:ext cx="850284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ea typeface="Times New Roman"/>
              </a:rPr>
              <a:t>OBRAS DE DRENAGEM  SUPERFICIAL, PROTEÇÃO VEGETAL (GRAMÍNEAS) E DESMONTE DE BLOC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Implantação de sistema de drenagem superficial (canaletas, rápidos, caixas de transição, escadas d´água, etc.). Implantação de proteção superficial vegetal (gramíneas) em taludes com solo exposto. Eventual execução de acessos para pedestres (calçadas, escadarias, etc.) integrados ao sistema de drenagem. Proteção vegetal de margens de canais de drenagem. Desmonte de blocos rochosos. Predomínio de serviços manuais e/ou com maquinário de pequeno p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96840" y="2349360"/>
            <a:ext cx="8089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ea typeface="Times New Roman"/>
              </a:rPr>
              <a:t>OBRAS DE DRENAGEM DE SUBSUPERFÍCI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Execução de sistema de drenagem de subsuperfície (trincheiras drenantes, DHP, poços de rebaixamento, etc.). Correspondem a serviços parcial ou totalmente mecanizad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81160" y="1809720"/>
            <a:ext cx="7594560" cy="2746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ea typeface="Times New Roman"/>
              </a:rPr>
              <a:t>ESTRUTURAS DE CONTENÇÃO LOCALIZADAS OU LINEA</a:t>
            </a:r>
            <a:r>
              <a:rPr b="1" lang="pt-BR" sz="2000" spc="-1" strike="noStrike">
                <a:solidFill>
                  <a:srgbClr val="333399"/>
                </a:solidFill>
                <a:latin typeface="Arial"/>
              </a:rPr>
              <a:t>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Implantação de estruturas de contenção localizadas, como chumbadores, tirantes, microestacas e muros de contenção passivos de pequeno porte (h</a:t>
            </a:r>
            <a:r>
              <a:rPr b="1" lang="pt-BR" sz="2000" spc="-1" strike="noStrike" baseline="-30000">
                <a:solidFill>
                  <a:srgbClr val="000000"/>
                </a:solidFill>
                <a:latin typeface="Arial"/>
                <a:ea typeface="Times New Roman"/>
              </a:rPr>
              <a:t>max</a:t>
            </a:r>
            <a:r>
              <a:rPr b="1" lang="pt-BR" sz="2000" spc="-1" strike="noStrike">
                <a:solidFill>
                  <a:srgbClr val="000000"/>
                </a:solidFill>
                <a:latin typeface="Arial"/>
                <a:ea typeface="Times New Roman"/>
              </a:rPr>
              <a:t> = 5 m e l</a:t>
            </a:r>
            <a:r>
              <a:rPr b="1" lang="pt-BR" sz="2000" spc="-1" strike="noStrike" baseline="-30000">
                <a:solidFill>
                  <a:srgbClr val="000000"/>
                </a:solidFill>
                <a:latin typeface="Arial"/>
                <a:ea typeface="Times New Roman"/>
              </a:rPr>
              <a:t>max</a:t>
            </a:r>
            <a:r>
              <a:rPr b="1" lang="pt-BR" sz="2000" spc="-1" strike="noStrike">
                <a:solidFill>
                  <a:srgbClr val="000000"/>
                </a:solidFill>
                <a:latin typeface="Arial"/>
                <a:ea typeface="Times New Roman"/>
              </a:rPr>
              <a:t> = 10 m). Obras de contenção e proteção de margens de canais (gabiões, muros de concreto, etc.). Correspondem a serviços parcial ou totalmente mecanizados.</a:t>
            </a:r>
            <a:r>
              <a:rPr b="1"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7:49:53Z</dcterms:created>
  <dc:creator>Luis Celso</dc:creator>
  <dc:description/>
  <dc:language>en-US</dc:language>
  <cp:lastModifiedBy>Luis Celso Coutinho</cp:lastModifiedBy>
  <dcterms:modified xsi:type="dcterms:W3CDTF">2004-12-20T11:29:18Z</dcterms:modified>
  <cp:revision>16</cp:revision>
  <dc:subject/>
  <dc:title>Slide 1</dc:title>
</cp:coreProperties>
</file>