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92D-CA44-434D-BEB2-7AA005D2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5E3-4710-4818-9B3A-C56F90E4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C78-24C2-4C79-8629-43CEC6F9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952-A36E-4917-A4EC-B59D7ABA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38C-3096-4416-8215-BF372CB5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19A-D795-4E9F-9F53-A658FF88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EC4-0EB1-45AF-88EC-FFD9415A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8B9-A994-4164-B568-76BAE233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3FE-35DE-4611-A046-B409401E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353-7DE6-4299-B3A6-1AD3E343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295-8E17-4CE7-BB1D-8743102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882-0E5C-45EA-AD6D-193A7AA0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BC80-17A0-4A8D-9FF6-D389655A42D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56720" y="645336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lide  </a:t>
            </a:r>
            <a:fld id="{76CF1092-6F90-4764-8215-449EBA06E506}" type="slidenum">
              <a:rPr b="1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1667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3880" y="1981080"/>
            <a:ext cx="813924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PARTIR DOS ESTUDOS PARA CUBATÃO (3,5 DIAS) CONSIDEROU-SE PARA OUTRAS Á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ARÂMETR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CUMULADO DE CHUVAS EM 3 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5486400"/>
            <a:ext cx="7467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lores obtidos a partir de levantamentos dos históricos de aci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4199040"/>
            <a:ext cx="638280" cy="1058760"/>
          </a:xfrm>
          <a:prstGeom prst="downArrow">
            <a:avLst>
              <a:gd name="adj1" fmla="val 50000"/>
              <a:gd name="adj2" fmla="val 414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 PAS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1295280"/>
            <a:ext cx="7543800" cy="52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ÂMETROS OPERACIONAIS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cumulado de chuvas 3 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00 mm Baixada San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20 mm Litoral N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00 mm Vale do Paraí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0 mm Campos do Jord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0 mm Camp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0 mm 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0 mm Soroc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7621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981080"/>
            <a:ext cx="883908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ÂMETROS OPERACIONAIS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ARÂMETRO 2  Meteor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1667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495288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Qual a quantidade de chuva que poderá cair sobre a ár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3505320"/>
            <a:ext cx="638280" cy="1058760"/>
          </a:xfrm>
          <a:prstGeom prst="downArrow">
            <a:avLst>
              <a:gd name="adj1" fmla="val 50000"/>
              <a:gd name="adj2" fmla="val 414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981080"/>
            <a:ext cx="883908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ÂMETROS OPERACIONAIS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ARÂMETRO 3  Vistoria de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1667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95288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xistem indícios de movimentação da área causados pelas chuv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3505320"/>
            <a:ext cx="638280" cy="1058760"/>
          </a:xfrm>
          <a:prstGeom prst="downArrow">
            <a:avLst>
              <a:gd name="adj1" fmla="val 50000"/>
              <a:gd name="adj2" fmla="val 414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3733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 PRE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90720" y="1523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1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286000"/>
            <a:ext cx="838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monitoramento de 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765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565520"/>
            <a:ext cx="7921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UMULADO DE CHUVAS EM 3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ISÕES METEOR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TORIAS DE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2852640"/>
            <a:ext cx="647640" cy="1440000"/>
          </a:xfrm>
          <a:prstGeom prst="downArrow">
            <a:avLst>
              <a:gd name="adj1" fmla="val 50000"/>
              <a:gd name="adj2" fmla="val 5558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1981080"/>
            <a:ext cx="86104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CUMULADO DE CHUVAS EM 3 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dições diárias nos postos pluviométricos da regi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lores de referência em estu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1667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1828800"/>
            <a:ext cx="815364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METEOR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uvas prolongadas com picos de alta intensidade no f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visão especial com tipo, duração e intensidade  das chu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visões fornecidas pela CEDEC (em São Pa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1667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1981080"/>
            <a:ext cx="861084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ISTORIAS DE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dentificação de feições de ins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 princípio feitas pelas equipes municipais trein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isão de retirada de mo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1667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127944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APA 1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LABO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676520"/>
            <a:ext cx="838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ção de ações e medidas preven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59220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363840"/>
            <a:ext cx="2438640" cy="398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22740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ompanhamento dos índices pluviométricos e meteor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343400"/>
            <a:ext cx="2438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3070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torias de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079960"/>
            <a:ext cx="243864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93236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ção em áreas de risco iminente observadas pela vi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0640" y="5927760"/>
            <a:ext cx="24274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RTA 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919840"/>
            <a:ext cx="48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ção em todas as áreas de r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6640" y="2522520"/>
            <a:ext cx="7467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ÍVEIS DO PPDC E AÇÕES CORRESPON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1219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676520"/>
            <a:ext cx="7696080" cy="48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ento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ições e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os necess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inamento de técnicos municipais e população envol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çõe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858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1667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124000"/>
            <a:ext cx="71629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trumento de convivên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 prevenção de acidentes naturais e/ou tecnológicos induzidos ou não pela ocupação humana. Deve utilizar os conhecimentos técnicos-científicos, associados aos procedimentos operacionais de atendimento das populações, visando a proteção da vida e a diminuição dos prejuízos sócio-econôm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860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ento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ições e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54100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IPES RESPONSÁVEIS PELAS 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3894120"/>
            <a:ext cx="647640" cy="1440000"/>
          </a:xfrm>
          <a:prstGeom prst="downArrow">
            <a:avLst>
              <a:gd name="adj1" fmla="val 50000"/>
              <a:gd name="adj2" fmla="val 5558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812960"/>
            <a:ext cx="7238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ento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ições e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276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IPES RESPONSÁVEIS PELAS 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388620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e Secretaria Execu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e de v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e de remo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e de abr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e de recuperação de 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1812960"/>
            <a:ext cx="7238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ento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ições e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3352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IPE SECRETARIA EXECU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88620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amento dos índices pluviomé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bimento e interpretação da meteor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bimento de cham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tenção de 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ada de dec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812960"/>
            <a:ext cx="7238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ento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ições e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33526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IPE DE V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38862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eamento prévio das 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torias  durante a operação do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ções para remo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812960"/>
            <a:ext cx="7238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ento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ições e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3352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IPE DE REMO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88620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stro de mo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ção de moradores e seus bens, quando necessá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812960"/>
            <a:ext cx="7238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ento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ições e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3276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IPE DE ABR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38862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stro e manutenção dos abr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ção dos abrigos durante o u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1812960"/>
            <a:ext cx="7238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ento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ições e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33526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IPE DE RECUPERAÇÃO DE 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3886200"/>
            <a:ext cx="8610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lhos de recuperação de vias, rios e áreas de r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e equipamentos/má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xílio nas decisões sobre o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286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stema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358128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fone (celular, f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á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2286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os necess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505320"/>
            <a:ext cx="5410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Estoque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estas bá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chonetes, cobertores, rou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terial para atend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ona p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einamento de técnicos municipais e população envol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396252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sos de 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estras para comun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179856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GUNTAS BÁ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90920"/>
            <a:ext cx="807732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 O QUE  E COMO OCORRE: Proces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ONDE OCORREM OS PROBLEMAS : Mape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QUANDO OCORREM OS PROBLEMAS: Correlação, monito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. QUE FAZER: medidas estruturais 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ão-estrutu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1667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22860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formaçõe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3352680"/>
            <a:ext cx="5486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lestras para comun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lders, cartazes, cartil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terial para impr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1806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3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ÇÃO E ACOMPAN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64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cação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765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16000" y="184464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4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6370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justes e aprimoramentos (técnicos e operacion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765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19320" y="110016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ÓRICO EM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00" y="1539720"/>
            <a:ext cx="87627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7 Plano de Contingência - indústrias de Cuba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8 Plano Preventivo de Defesa Civil - Lit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Inundações no Vale do Rib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 Plano Preventivo de Defesa Civil - Vale do Paraí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2 Plano piloto para a Região de Camp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3 Plano piloto para a Região de Soroca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3 Plano piloto para a Região do A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59220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38080" y="1447920"/>
            <a:ext cx="784872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ord. Estadual de Defesa Civil – CEDEC (coor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gional de Defesa Civil - RE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nstituto de Pesquisas Tecnológicas - 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nstituto Geológico – 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partamento de Águas e Energia Elétrica - DA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fesas Civis Municip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765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4000" y="54936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82520" y="1006560"/>
            <a:ext cx="7147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828800"/>
            <a:ext cx="7467480" cy="37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DC Litoral – 8 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DC Vale do Paraíba – 16 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DC Campinas – 13 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DC Sorocaba – 7 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DC ABCD – 7 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TAL – 51 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1295280"/>
            <a:ext cx="7696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MUNICÍPIOS 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6206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14400" y="1265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DC LITORAL (SÃO PA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981080"/>
            <a:ext cx="815328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ÂMETROS OPERACIONAIS - CHU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batão: CPC = 0,5; 1,0; 1,4; 2,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utras cidades da Baixada Santista: Acumulado de chuvas 3 dias &gt; 100mm e CCM &gt;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toral Norte: Acumulado de chuvas 3 dias &gt; 120mm e CCM &gt; 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66348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1265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DC VALE DO PARAIBA (SÃO PA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1981080"/>
            <a:ext cx="746784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nicípios 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6 cidad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ias, Bananal, Cruzeiro, Lavrinhas, Queluz, Piquete, Guaratinguetá, Aparecida, Cunha, São Luiz do Paraitinga, São José dos Campos, Paraibuna, Jacareí, Santa Branca, Campos do Jordão, São Bento do Sapuca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1265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DC VALE DO PARAIBA (SÃO PA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2147760"/>
            <a:ext cx="89154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ÂMETROS OPERACIONAIS - CHU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umulado de chuvas 3 dias &gt; 100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umulado de chuvas 3 dias &gt; 80mm para Campos do Jord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6206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523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1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286000"/>
            <a:ext cx="83822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geológico/geo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cação, análise e cartografia de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érios técnicos de deflagração de ações preven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monitoramento de 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ção de ações e medidas preven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765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1265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DC REGIÃO DE CAMPINAS (SÃO PA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981080"/>
            <a:ext cx="7467840" cy="35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nicípios 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3 cidad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mpinas, Hortolândia, Pedreira, Limeira, Rio Claro, Jundiaí, Campo Limpo Paulista, Bragança Paulista, Atibaia, Socorro, Amparo, Serra Negra e Águas de Lindó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1265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DC REGIÃO DE CAMPINAS (SÃO PA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2440" y="2147760"/>
            <a:ext cx="73152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ÂMETROS OPERACIONAIS - CHU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umulado de chuvas 3 dias &gt; 80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1265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DC REGIÃO DE SOROCABA (SÃO PA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981080"/>
            <a:ext cx="7467840" cy="2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unicípios 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7 cidades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orocaba, Alumínio, Araçariguama, Ibiúna,  Mairinque, São Roque, Votorant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1265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DC REGIÃO DE SOROCABA (SÃO PA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52440" y="2147760"/>
            <a:ext cx="73152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ÂMETROS OPERACIONAIS - CHU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umulado de chuvas 3 dias &gt; 80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1265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DC REGIÃO DO ABCD (SÃO PA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1981080"/>
            <a:ext cx="746784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nicípios 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7 cidad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nto André, São Bernardo, São Caetano, Diadema, Mauá, Ribeirão Pires, Rio Grande da S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6858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1265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DC REGIÃO DO ABCD (SÃO PA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52440" y="2147760"/>
            <a:ext cx="73152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ÂMETROS OPERACIONAIS - CHU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umulado de chuvas 3 dias &gt; 80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858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6934320" cy="520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1143000" y="838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STRA NOTURNA PARA COMUNIDADE DAS Á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838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LA DE CAMPO PARA TÉCNICOS MUNI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67057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838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LA DE CAMPO PARA TÉCNICOS MUNI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371600" y="1371600"/>
            <a:ext cx="6900840" cy="480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838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LA DE CAMPO PARA TÉCNICOS MUNI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848280" cy="461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1523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1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00160" y="2286000"/>
            <a:ext cx="735948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geológico/geotécnic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cação, análise e cartografia de 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765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5229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EAMENTO DAS 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645000"/>
            <a:ext cx="647640" cy="1439640"/>
          </a:xfrm>
          <a:prstGeom prst="downArrow">
            <a:avLst>
              <a:gd name="adj1" fmla="val 50000"/>
              <a:gd name="adj2" fmla="val 555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1523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1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0"/>
            <a:ext cx="838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érios técnicos de deflagração de ações preven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765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581360"/>
            <a:ext cx="8001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SE UTILIZ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ÁGUA COMO PRINCIPAL AGENTE DEFLAGRADOR = CHU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SINAIS DE MOVIMENTAÇÃO COMO REFERÊNCIA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2852640"/>
            <a:ext cx="647640" cy="1440000"/>
          </a:xfrm>
          <a:prstGeom prst="downArrow">
            <a:avLst>
              <a:gd name="adj1" fmla="val 50000"/>
              <a:gd name="adj2" fmla="val 5558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1523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1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81080"/>
            <a:ext cx="838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érios técnicos de deflagração de ações preven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765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289548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AL A QUANTIDADE DE ÁGUA NECESSÁRIA PARA CAUSAR O ESCORREGAM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05240" y="3733920"/>
            <a:ext cx="647640" cy="1439640"/>
          </a:xfrm>
          <a:prstGeom prst="downArrow">
            <a:avLst>
              <a:gd name="adj1" fmla="val 50000"/>
              <a:gd name="adj2" fmla="val 555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5410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LAÇÃO CHUVA x ESCORREG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1760400"/>
            <a:ext cx="5867640" cy="4191120"/>
          </a:xfrm>
          <a:custGeom>
            <a:avLst/>
            <a:gdLst/>
            <a:ahLst/>
            <a:rect l="l" t="t" r="r" b="b"/>
            <a:pathLst>
              <a:path w="3936" h="2784">
                <a:moveTo>
                  <a:pt x="0" y="0"/>
                </a:moveTo>
                <a:lnTo>
                  <a:pt x="0" y="2784"/>
                </a:lnTo>
                <a:lnTo>
                  <a:pt x="3936" y="278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20800" y="2249640"/>
            <a:ext cx="5543640" cy="3457440"/>
          </a:xfrm>
          <a:custGeom>
            <a:avLst/>
            <a:gdLst/>
            <a:ahLst/>
            <a:rect l="l" t="t" r="r" b="b"/>
            <a:pathLst>
              <a:path w="3492" h="2178">
                <a:moveTo>
                  <a:pt x="0" y="0"/>
                </a:moveTo>
                <a:lnTo>
                  <a:pt x="54" y="250"/>
                </a:lnTo>
                <a:lnTo>
                  <a:pt x="120" y="480"/>
                </a:lnTo>
                <a:lnTo>
                  <a:pt x="200" y="722"/>
                </a:lnTo>
                <a:lnTo>
                  <a:pt x="290" y="932"/>
                </a:lnTo>
                <a:lnTo>
                  <a:pt x="394" y="1120"/>
                </a:lnTo>
                <a:lnTo>
                  <a:pt x="542" y="1330"/>
                </a:lnTo>
                <a:lnTo>
                  <a:pt x="676" y="1478"/>
                </a:lnTo>
                <a:lnTo>
                  <a:pt x="846" y="1622"/>
                </a:lnTo>
                <a:lnTo>
                  <a:pt x="1054" y="1756"/>
                </a:lnTo>
                <a:lnTo>
                  <a:pt x="1264" y="1860"/>
                </a:lnTo>
                <a:lnTo>
                  <a:pt x="1420" y="1918"/>
                </a:lnTo>
                <a:lnTo>
                  <a:pt x="1588" y="1970"/>
                </a:lnTo>
                <a:lnTo>
                  <a:pt x="1790" y="2026"/>
                </a:lnTo>
                <a:lnTo>
                  <a:pt x="1948" y="2048"/>
                </a:lnTo>
                <a:lnTo>
                  <a:pt x="2236" y="2094"/>
                </a:lnTo>
                <a:lnTo>
                  <a:pt x="2392" y="2112"/>
                </a:lnTo>
                <a:lnTo>
                  <a:pt x="2604" y="2134"/>
                </a:lnTo>
                <a:lnTo>
                  <a:pt x="2990" y="2156"/>
                </a:lnTo>
                <a:lnTo>
                  <a:pt x="3492" y="2178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890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9920" y="19670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2716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8240" y="2386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8274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697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2520" y="41544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73160" y="4579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5024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79640" y="5465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393920" y="2071800"/>
            <a:ext cx="60120" cy="3504960"/>
            <a:chOff x="1393920" y="2071800"/>
            <a:chExt cx="60120" cy="3504960"/>
          </a:xfrm>
        </p:grpSpPr>
        <p:sp>
          <p:nvSpPr>
            <p:cNvPr id="79" name=""/>
            <p:cNvSpPr/>
            <p:nvPr/>
          </p:nvSpPr>
          <p:spPr>
            <a:xfrm>
              <a:off x="1400040" y="2071800"/>
              <a:ext cx="5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00040" y="2513160"/>
              <a:ext cx="5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00040" y="2948040"/>
              <a:ext cx="5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00040" y="3392640"/>
              <a:ext cx="5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00040" y="3834000"/>
              <a:ext cx="5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393920" y="4265640"/>
              <a:ext cx="59760" cy="885960"/>
              <a:chOff x="1393920" y="4265640"/>
              <a:chExt cx="59760" cy="885960"/>
            </a:xfrm>
          </p:grpSpPr>
          <p:sp>
            <p:nvSpPr>
              <p:cNvPr id="85" name=""/>
              <p:cNvSpPr/>
              <p:nvPr/>
            </p:nvSpPr>
            <p:spPr>
              <a:xfrm>
                <a:off x="1393920" y="4265640"/>
                <a:ext cx="5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93920" y="4710240"/>
                <a:ext cx="5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00040" y="5151600"/>
                <a:ext cx="5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00040" y="5576760"/>
              <a:ext cx="5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857240" y="602136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48040" y="6012000"/>
            <a:ext cx="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6027840"/>
            <a:ext cx="4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31960" y="6002280"/>
            <a:ext cx="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6027840"/>
            <a:ext cx="51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84560" y="6005520"/>
            <a:ext cx="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0520" y="6018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92600" y="6008760"/>
            <a:ext cx="144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6018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6008760"/>
            <a:ext cx="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08440" y="601200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98880" y="6002280"/>
            <a:ext cx="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6018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57960" y="6008760"/>
            <a:ext cx="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38840" y="6014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29280" y="6005520"/>
            <a:ext cx="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6332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pitação total em 84 horas (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-485640" y="3567240"/>
            <a:ext cx="29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pitação horária (mm/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6655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  REGISTROS  DE ESCORREGA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51894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  REGISTROS  DE ESCORREGAMEN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379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UVAS  X  ESCORREGAMENTOS EM CUBATÃO, SÃO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765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4040" y="6012000"/>
            <a:ext cx="4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4480" y="6002280"/>
            <a:ext cx="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6920" y="6012000"/>
            <a:ext cx="4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37360" y="6002280"/>
            <a:ext cx="0" cy="5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505560" y="3733920"/>
            <a:ext cx="2257560" cy="3076560"/>
            <a:chOff x="6505560" y="3733920"/>
            <a:chExt cx="2257560" cy="3076560"/>
          </a:xfrm>
        </p:grpSpPr>
        <p:sp>
          <p:nvSpPr>
            <p:cNvPr id="116" name=""/>
            <p:cNvSpPr/>
            <p:nvPr/>
          </p:nvSpPr>
          <p:spPr>
            <a:xfrm>
              <a:off x="6505560" y="6048360"/>
              <a:ext cx="990720" cy="762120"/>
            </a:xfrm>
            <a:prstGeom prst="ellipse">
              <a:avLst/>
            </a:pr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320600">
              <a:off x="7467120" y="4419720"/>
              <a:ext cx="304920" cy="1676160"/>
            </a:xfrm>
            <a:prstGeom prst="upArrow">
              <a:avLst>
                <a:gd name="adj1" fmla="val 50000"/>
                <a:gd name="adj2" fmla="val 13742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3733920"/>
              <a:ext cx="1600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,5 D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135576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ÁLCULO DO COEFICIENTE DE PRECIPITAÇÃO CRÍTICA - C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2624040"/>
          <a:ext cx="8001000" cy="3090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624040"/>
                    <a:ext cx="800100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4000" y="6922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 PREVENTIVO DE DEFESA CIVIL - PP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1:28:04Z</dcterms:created>
  <dc:creator>Nurg9</dc:creator>
  <dc:description/>
  <dc:language>en-US</dc:language>
  <cp:lastModifiedBy>AlvaroRV</cp:lastModifiedBy>
  <dcterms:modified xsi:type="dcterms:W3CDTF">2005-01-27T16:46:44Z</dcterms:modified>
  <cp:revision>14</cp:revision>
  <dc:subject/>
  <dc:title>Slide 1</dc:title>
</cp:coreProperties>
</file>