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51.wmf" ContentType="image/x-wmf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wmf" ContentType="image/x-wmf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7CC-C61D-4A18-8C8A-3942BE3E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B95-6ADD-49F8-926B-EC9559C2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26D-EBBD-4CAA-8700-48A5A5D3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D0F-2C90-45C8-99A3-E04D24F3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1DE-5892-4FA1-94EB-5405D4F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C35-4976-411E-A9D2-4B6D4A1F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3AF-2C62-42F6-9966-A712D6B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F2C-53C3-4241-B7DD-514ABDA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D54-54FB-4DAE-BBFF-5A0CE9C8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159-A9B2-4E9C-B15A-341ECD5F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6B3-AFA4-452A-8DBA-1ED9E2B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F93-C3B7-4CAA-9524-67CF2738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C7AD-DB30-4B44-A57D-BBE2CF9F43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5336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lide  </a:t>
            </a:r>
            <a:fld id="{16C3DBFA-DFAA-45E8-B335-955F98004BF2}" type="slidenum">
              <a:rPr b="1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8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0400" y="81108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ECTOS CONCEIT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63840" y="245916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DE RISCO DE ENCHENTE E INUND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9480" y="3587760"/>
            <a:ext cx="7308720" cy="1923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passível de ser atingida por processos de enchente e inundação. As pessoas que habitam essas áreas estão sujeitas a danos à integridade física, perdas materiais e patrimoniais. Normalmente, essas áreas correspondem a núcleos habitacionais de baixa renda (assentamentos precári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38160" y="1341360"/>
            <a:ext cx="7207200" cy="5033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93200" y="808200"/>
            <a:ext cx="816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FEITOS ADVERSOS DE ENCHENTES E INUND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27160" y="216864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EITOS DIRE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7240" y="2762280"/>
            <a:ext cx="4500360" cy="162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T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UIÇÃO DE MORAD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DAS ECONÔMICAS DIVERS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TOS COM RECUPE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27160" y="473400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EITOS INDIRE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7240" y="5310360"/>
            <a:ext cx="374940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TOS DE LEPTOSPI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81960" y="103968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OS E CENÁRIOS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63680" y="2568600"/>
            <a:ext cx="6445080" cy="82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os e investigações para o entendimento da fenomenologia dos processos ocorrentes bem como dos cenários de risco de acid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03320" y="1698480"/>
            <a:ext cx="712944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82800" y="1508040"/>
            <a:ext cx="7181640" cy="469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1901880"/>
            <a:ext cx="7161120" cy="3906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77840" y="1690560"/>
            <a:ext cx="6969240" cy="434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73320" y="1668600"/>
            <a:ext cx="6572160" cy="4381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23920" y="1574640"/>
            <a:ext cx="6869160" cy="4578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9440" y="2174760"/>
            <a:ext cx="6767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COPO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bordar o probl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 enchentes e inundações 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unicípios enfocando a quest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 risc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ociado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entamentos prec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1960" y="103968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OS E CENÁRIOS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80" y="2548080"/>
            <a:ext cx="82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ÁRIO DE RISCO DE INUNDAÇÃO DE TERRENOS DE BAIX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6760" y="3927600"/>
            <a:ext cx="7855560" cy="866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dade de ocorrência de óbitos, perdas materiais e patrimon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as quando da ocorrência de inundação de terrenos de baix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upadas por assentamentos prec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05000" y="1596960"/>
            <a:ext cx="6473880" cy="4471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87480" y="1735200"/>
            <a:ext cx="7119720" cy="4260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03480" y="1365120"/>
            <a:ext cx="6711840" cy="4907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80520" y="98892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OS E CENÁRIOS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0480" y="2306520"/>
            <a:ext cx="82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ÁRIO DE RISCO DE INUNDAÇÃO DE TERRENOS DE BAIX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800" y="33354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RACTERÍSTICAS DO PROCES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08040" y="3975120"/>
            <a:ext cx="6985080" cy="2397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ndação de extensas áreas de baixada associada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ície de inundação dos 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âmica lenta de escoamento superfic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recuo das águas para o leito menor é relativamente l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grande o número de moradias afet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mente não ha registro de perda de vidas human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 baixadas litorâneas há o efeito da ma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54160" y="1197000"/>
            <a:ext cx="6808680" cy="480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68560" y="1206360"/>
            <a:ext cx="6810120" cy="4938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80520" y="98892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OS E CENÁRIOS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16320" y="2509920"/>
            <a:ext cx="60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ÁRIO DE RISCO DE ENCHENTE ATINGI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UPAÇÃO RIBEIR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280" y="3860640"/>
            <a:ext cx="7855560" cy="1410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dade de ocorrência de óbitos, perdas materiais e patrimon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as, pelo impacto direto das águas ou solapamento de ta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ginais, quando da ocorrência de processo de enchente, atingi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ntamentos precários associados à ocupação ribeirin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71440" y="1506600"/>
            <a:ext cx="6761160" cy="470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17440" y="1476360"/>
            <a:ext cx="6877080" cy="47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55800" y="1752480"/>
            <a:ext cx="6995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BJETIVO ESPECÍFICO: apres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écnicas e métodos para capac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écnicos municipais na identificaçã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nálise e no mapeamento de á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e risco de enchentes e inund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ssociada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sentamentos precá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28800" y="1484280"/>
            <a:ext cx="7259400" cy="4729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80520" y="98892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OS E CENÁRIOS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7480" y="2509920"/>
            <a:ext cx="60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ÁRIO DE RISCO DE ENCHENTE ATINGI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UPAÇÃO RIBEIR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9400" y="3668760"/>
            <a:ext cx="36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acterísticas do Proces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47720" y="4248000"/>
            <a:ext cx="6985080" cy="206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us efeitos são restritos ao canal de drenag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s de erosão e solapamento dos taludes margi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rentes da ench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destrutivo em função da energia de esco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dade alta de destruição de morad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dade moderada a alta de perda de vidas hum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68480" y="1276200"/>
            <a:ext cx="6968880" cy="510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90720" y="1228680"/>
            <a:ext cx="7129440" cy="52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28880" y="1265400"/>
            <a:ext cx="7086600" cy="519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55800" y="1204920"/>
            <a:ext cx="7211880" cy="5283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98560" y="1335240"/>
            <a:ext cx="7315200" cy="500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4640" y="933480"/>
            <a:ext cx="7755120" cy="566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80520" y="98892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OS E CENÁRIOS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3160" y="2332080"/>
            <a:ext cx="783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ÁRIO DE RISCO DE ENCHENTE E INUNDAÇÃO COM 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A DE ESCOAMENTO E CAPACIDAD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E DE MATERIAL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680" y="4232160"/>
            <a:ext cx="8119080" cy="1739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dade de ocorrência de óbitos, perdas materiais e patrimon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as, pelo impacto direto das águas com alta energia de esco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transporte de material sólido (sedimentos, blocos de rocha, tronc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vore) quando da ocorrência de processo de enchente e inund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ingindo assentamentos precár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81000" y="1158840"/>
            <a:ext cx="7150320" cy="536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200" y="86184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EÚDO DA 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6840" y="1465200"/>
            <a:ext cx="7266240" cy="4449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1. Aspectos conceit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2. Efeitos adversos decorrentes de enchentes e inundações no Bras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3. Aspectos naturais e antrópicos que condicionam a ocorrência de enchentes e inundações no Bras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Identificação de áreas de risco de enchentes e inund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Análise de risco de enchentes e inund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 Mapeamento de áreas de risco de enchentes e inund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17640" y="1535040"/>
            <a:ext cx="7281720" cy="4600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88840" y="1352520"/>
            <a:ext cx="7336080" cy="497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80520" y="98892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OS E CENÁRIOS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720" y="296712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ACTERÍSTICAS DO PROCES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98680" y="3946680"/>
            <a:ext cx="6743520" cy="1739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orre geralmente em anfiteatros de drenagem de rel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ra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energia de impacto destruti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dade alta de perda de vidas human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dade de destruição total ou parcial de mora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12680" y="1411200"/>
            <a:ext cx="7101000" cy="4845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6840" y="1406520"/>
            <a:ext cx="7134480" cy="4892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75400" y="82404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CTOS QUE CONDICIONAM A OCOR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ENCHENTES E INUND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8440" y="2293920"/>
            <a:ext cx="31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TORES NATUR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98800" y="2746440"/>
            <a:ext cx="4825800" cy="1739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VIOMET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Ê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E FORMA DA BAC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E HIDRÁULICO DO 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ÂMICA DE ESCOAMENTO PLUV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8080" y="4710240"/>
            <a:ext cx="34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) FATORES ANTRÓP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98800" y="5162400"/>
            <a:ext cx="6350040" cy="1410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ERMEABILIZAÇÃO DOS TERREN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RAS E INTERVENÇÕES ESTRUTURAIS DIVER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 LONGO DOS CURSOS D’ÁGU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OSÃO E ASSORE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39960" y="1406520"/>
            <a:ext cx="7270560" cy="487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Sem%20título-3cópia" descr=""/>
          <p:cNvPicPr/>
          <p:nvPr/>
        </p:nvPicPr>
        <p:blipFill>
          <a:blip r:embed="rId2"/>
          <a:stretch/>
        </p:blipFill>
        <p:spPr>
          <a:xfrm>
            <a:off x="1278000" y="1000080"/>
            <a:ext cx="6619680" cy="435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12680" y="5620680"/>
            <a:ext cx="69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ções no hidrograma  pela impermeabilização da b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87560" y="1498680"/>
            <a:ext cx="6949800" cy="470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1495440"/>
            <a:ext cx="6994800" cy="4672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28040" y="108108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ECTOS CONCEIT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3309840"/>
            <a:ext cx="2287440" cy="104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h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u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28800" y="1360440"/>
            <a:ext cx="7284960" cy="4954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79640" y="1428840"/>
            <a:ext cx="6984720" cy="4827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47800" y="1379520"/>
            <a:ext cx="7421400" cy="4946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35000" y="1444680"/>
            <a:ext cx="7053480" cy="479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03320" y="1531800"/>
            <a:ext cx="7112160" cy="4637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46160" y="1450800"/>
            <a:ext cx="7031160" cy="4776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69840" y="1413000"/>
            <a:ext cx="716616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42840" y="1246320"/>
            <a:ext cx="7197840" cy="513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50760" y="1138320"/>
            <a:ext cx="7204320" cy="540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09800" y="1181160"/>
            <a:ext cx="7099200" cy="532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81440" y="4292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2000" y="2909880"/>
            <a:ext cx="718992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CHEN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levação temporária do nível d´água em 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l de drenagem devida ao aumento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zão ou des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31280" y="108108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ECTOS CONCEIT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95280" y="1393920"/>
            <a:ext cx="6527880" cy="489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71040" y="2325600"/>
            <a:ext cx="7806960" cy="162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ICAÇÃO, ANÁLISE E MAPE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 ÁREAS DE RISCO DE PROCES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IDR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63400" y="925560"/>
            <a:ext cx="802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ITÉRIOS PARA IDENTIFICAÇÃO DE Á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 RISCO DE ENCHENTES E INUND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230652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QUE IDENTIFIC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1360" y="2973240"/>
            <a:ext cx="7547760" cy="1195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OS CENÁRIOS DE RISCO POTENCIAL DE ENCH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INUNDAÇÃO PRESENTES NA CIDADE ENVOLV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NTAMENTOS PREC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400" y="4548240"/>
            <a:ext cx="8023320" cy="752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DE HÁ ASSENTAMENTOS PRECÁRIOS OCUPANDO EXTEN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S DA PLANÍCIE DE INUNDAÇÃO DOS RI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7080" y="5450040"/>
            <a:ext cx="7980120" cy="80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DE HÁ ASSENTAMENTOS PRECÁRIOS (OCUPAÇÃO RIBEIR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UPANDO MARGENS DE RIOS SUJEITAS A ENCH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9360" y="785880"/>
            <a:ext cx="820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ÉTODOS E TÉCNICAS PARA IDENT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 ÁREAS DE RISCO DE ENCH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 INUND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560" y="28432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O IDENTIFIC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0080" y="3538440"/>
            <a:ext cx="7297920" cy="64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HECER OS LOCAIS DE PERIGO EFETIVO OU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MEIO DE PESQUISA DIRIG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" y="4560840"/>
            <a:ext cx="751248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O DE OCORRÊNCIAS DE ENCHENTES E INUND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ÁREA URBANA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2800" y="5583240"/>
            <a:ext cx="751248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O DE OCORRÊNCIAS DE ENCHENTES E INUND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OLVENDO ASSENTAMENTOS PREC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9360" y="785880"/>
            <a:ext cx="820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ÉTODOS E TÉCNICAS PARA IDENT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 ÁREAS DE RISCO DE ENCH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 INUND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440" y="261144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O LOCALIZ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9600" y="3246480"/>
            <a:ext cx="7419600" cy="69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EM PLANTA CARTOGRÁFICA AS ÁREAS DE RIS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ANT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2600" y="4254480"/>
            <a:ext cx="8013600" cy="206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O DE OCORRÊNCIAS DE ENCHENTES E INUNDAÇÕES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REA URBANA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O DE OCORRÊNCIAS DE ENCHENTES E INUND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OLVENDO ASSENTAMENTOS PREC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AS BACIAS E OS CURSOS D´ÁGUA PROBLE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DE FICHAS DE CADASTRO COM DESCRIÇÃO DA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86080" y="855720"/>
            <a:ext cx="4330800" cy="5262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6680" y="785880"/>
            <a:ext cx="790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ÂMETROS E CRITÉRIOS DE ANÁLIS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SCO DE ÁREAS DE RISC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CHENTES E INUND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0600" y="2941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QUE ANALIS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7400" y="3614760"/>
            <a:ext cx="734040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ÁRIOS DE RISCO EM FUNÇÃO DO TIPO DE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ORRENTE E VULNERABILIDADE DA OCUPAÇÃO INSTA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1320" y="478800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ITÉRIOS DE ANÁL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5560" y="5437080"/>
            <a:ext cx="7251480" cy="752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ÊNCIA E MAGNITUDE DO PROCESSO HIDROLÓG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ANCE, EXTENSÃO E IMPACTOS DO PROCESS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42640" y="735120"/>
            <a:ext cx="86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TÉRIOS DE ANÁLISE DE RISCO DE ÁREAS DE RI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ENCHENTE E INU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22040" y="1913040"/>
            <a:ext cx="70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ÇÃO DE NÍVEIS DE RISCO OU NÍVEIS DE PER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720" y="2738520"/>
            <a:ext cx="4498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ÂMETROS DE ANÁLISE DE RIS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600" y="3284640"/>
            <a:ext cx="86922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ÇÃO E ANÁLISE DO POTENCIAL DESTRUTIVO DO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DROLÓGICO OCORRENTE (PARÂMETRO DE NATUREZA HIDROLÓGIC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9960" y="4443480"/>
            <a:ext cx="8583840" cy="1845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UNDAÇÃO COM BAIXA ENERGIA DE ESCOAMEN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UNDAÇÃO COM ALTA ENERGIA DE ESCOAMENTO E POTENCIAL  DESTRUTIV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HENTE COM ALTO PODER DE EROSÃO  E SOLAPAMENTO MARGIN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HENTE COM ALTA ENERGIA DE DESLOCAMENTO E POTENCIAL DESTRUTIV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HENTE COM ALTA ENERGIA DE DESLOCAMENTO, ALTA CAPACIDAD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E DE MATERIAL SÓLIDO E POTENCIAL DESTRU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22040" y="1913040"/>
            <a:ext cx="70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ÇÃO DE NÍVEIS DE RISCO OU NÍVEIS DE PER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2640" y="735120"/>
            <a:ext cx="86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TÉRIOS DE ANÁLISE DE RISCO DE ÁREAS DE RI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ENCHENTE E INU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8320" y="2954160"/>
            <a:ext cx="4498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ÂMETROS DE ANÁLISE DE RIS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3840" y="3602160"/>
            <a:ext cx="83628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ÇÃO DA VULNERABILIDADE DAS MORADIAS EM FUN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ADRÃO CONSTRUTIVO (PARÂMETRO REFERENTE AO ELE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 RISC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1800" y="5267160"/>
            <a:ext cx="4410000" cy="677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T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ASAS DE MADEI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ÉDIA A BAIX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ASAS DE ALVEN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2640" y="735120"/>
            <a:ext cx="86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TÉRIOS DE ANÁLISE DE RISCO DE ÁREAS DE RI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ENCHENTE E INU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6480" y="2332080"/>
            <a:ext cx="70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ÇÃO DE NÍVEIS DE RISCO OU NÍVEIS DE PER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2760" y="342432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ITÉRIOS DE ANÁLISE DE RIS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1080" y="4294080"/>
            <a:ext cx="6102720" cy="1553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CIAL ENERGÉTICO DO PROCESSO HIDROLÓGIC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NOS SOCIA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NOS MATERIA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ÜÊNCIA DO EVENTO HIDROLÓGIC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ÇÃO DE VULNERABI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11810" t="5688" r="5352" b="21412"/>
          <a:stretch/>
        </p:blipFill>
        <p:spPr>
          <a:xfrm>
            <a:off x="1773360" y="1781280"/>
            <a:ext cx="5895720" cy="337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46920" y="809640"/>
            <a:ext cx="4560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ERMINAÇÃO DE GRAUS DE RIS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8880" y="1220760"/>
            <a:ext cx="8285400" cy="1300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SCO MUITO ALT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nagem ou compartimentos de drenagem sujeitos a processos com alto potencial de causar danos, principalmente sociais, alta freqüência de ocorrência (pelo menos 3 eventos significativos em 5 anos) e envolvendo moradias de alta vulnerabi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3680" y="2633760"/>
            <a:ext cx="8292960" cy="1300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SCO ALT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nagem ou compartimentos de drenagem sujeitos a processos com alto potencial de causar danos, média freqüência de ocorrência (registro de 1 ocorrência significativa nos últimos 5 anos) e envolvendo moradias de alta vulnerabi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3680" y="4056120"/>
            <a:ext cx="8296200" cy="999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SCO MODERADO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nagem ou compartimentos de drenagem sujeitos a processos com médio potencial de causar danos, média freqüência de ocorrência (registro de 1 ocorrência significativa nos últimos 5 anos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0720" y="5203800"/>
            <a:ext cx="8288640" cy="999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SCO BAIX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nagem ou compartimentos de drenagem sujeitos a processos com baixo potencial de causar danos e baixa freqüência de ocorrência (não registro de ocorrências significativas nos últimos 5 a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2040" y="874800"/>
            <a:ext cx="798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ITÉRIOS DE MAPEAMENTO DE ÁRE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SCO DE ENCHENTE E INUND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120" y="3181320"/>
            <a:ext cx="7721640" cy="2397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 DO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 DE ÁREAS DE RISCO EXISTENTES NA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ALA DO MAPE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ÇÃO DO NÍVEL OU GRAU DE RISCO GERAL DA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RISCO OU DELIMITAÇÃO DE COMPARTIMENTOS DISTI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R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EAMENTO E CADASTRAMENTO DE R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0080" y="988920"/>
            <a:ext cx="747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ÉTODOS E TÉCNICAS DE MAPE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 ÁREAS DE RISCO DE ENCH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 INUND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1680" y="3424320"/>
            <a:ext cx="8547120" cy="2205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ÇÃO E DELIMITAÇÃO PRELIMINAR DE ÁREA DE R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FOTOS AÉREAS DE LEVANTAMENTOS EROFOTOGRAMÉTR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ÇÃO DE ÁREA DE RISCO E DE SETORES DE RIS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TORIZAÇÃO PRELIMINAR) EM FOTOS AÉREAS DE BAIXA ALTITU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ANTAMENTOS DE CAMPO PARA SETOR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691240" y="1600200"/>
          <a:ext cx="19508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1240" y="1600200"/>
                    <a:ext cx="19508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375080" y="1560600"/>
            <a:ext cx="4584600" cy="5099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358920" y="684360"/>
            <a:ext cx="84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ÉTODOS E TÉCNICAS DE MAPEAMENTO DE Á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RISCO DE ENCHENTE E INU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7280" y="2050920"/>
            <a:ext cx="42242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CAÇÃO E DELIMIT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LIMINAR DE ÁREA DE RISCO 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TOS AÉREAS DE LEVANT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EROFOTOGRAMÉTRIC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873000" y="2297160"/>
            <a:ext cx="7359840" cy="4281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372960" y="684360"/>
            <a:ext cx="84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ÉTODOS E TÉCNICAS DE MAPEAMENTO DE Á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RISCO DE ENCHENTE E INU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670040"/>
            <a:ext cx="813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CAÇÃO E DELIMITAÇÃO PRELIMINAR DE ÁREA DE RISCO EM FO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ÉREAS DE SOBREVOOS DE HELICÓP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420920" y="2301840"/>
            <a:ext cx="6307200" cy="433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372960" y="684360"/>
            <a:ext cx="84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ÉTODOS E TÉCNICAS DE MAPEAMENTO DE Á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RISCO DE ENCHENTE E INU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70040"/>
            <a:ext cx="813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CAÇÃO E DELIMITAÇÃO PRELIMINAR DE ÁREA DE RISCO EM FO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ÉREAS DE SOBREVOOS DE HELICÓP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rcRect l="0" t="1181" r="1309" b="1894"/>
          <a:stretch/>
        </p:blipFill>
        <p:spPr>
          <a:xfrm>
            <a:off x="2143080" y="1512720"/>
            <a:ext cx="4800600" cy="520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72960" y="620640"/>
            <a:ext cx="84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ÉTODOS E TÉCNICAS DE MAPEAMENTO DE Á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RISCO DE ENCHENTE E INU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45760" y="3000240"/>
            <a:ext cx="8046000" cy="1618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UNDAÇÃ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enômeno de extravasamento das águas do ca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drenagem para as áreas marginais  (planíci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undação, várzea ou leito maior do rio) quand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hente atinge cota acima do nível máximo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ha principal do 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32720" y="108108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ECTOS CONCEIT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9840" y="725400"/>
            <a:ext cx="84708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15:09:12Z</dcterms:created>
  <dc:creator>nurg5</dc:creator>
  <dc:description/>
  <dc:language>en-US</dc:language>
  <cp:lastModifiedBy>AlvaroRV</cp:lastModifiedBy>
  <dcterms:modified xsi:type="dcterms:W3CDTF">2005-01-27T16:45:15Z</dcterms:modified>
  <cp:revision>66</cp:revision>
  <dc:subject/>
  <dc:title>Identificação e Análise de Áreas de Risco de Enchentes e Inundação</dc:title>
</cp:coreProperties>
</file>