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414-6445-4E2A-BCE7-96DA6920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3E2-14DD-401F-89DB-9FF6C2F4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0C0-E798-452F-92B4-9FDE41A2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2DA-90C0-4929-BCE4-7357A88F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548-A297-4218-95F3-1D3D0556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067-2645-461B-B9D0-9467A388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E48-C854-485C-9D15-A063D25E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5A4-1D01-4AF2-94FB-81A22017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875-69BD-42CF-91FF-9B65DC25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3E6-3A38-48B6-8E3D-76F701D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F55-B4A7-466A-9A6F-730C99B2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9D5-8091-4E12-BBB9-B35F4A5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ED96-45F8-4B66-B6D3-6B5710EFA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81840" y="637056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 </a:t>
            </a:r>
            <a:fld id="{F05D3C2F-4BE0-4CD4-B266-F9ED08554DF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3280" y="1846440"/>
            <a:ext cx="347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585600"/>
            <a:ext cx="68295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nômeno com características, dimensões e localização geográfica registrada no temp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58120" y="2607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0880" y="3738240"/>
            <a:ext cx="55594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ção com potencial para causar uma conseqüência desagrad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11600" y="2595600"/>
            <a:ext cx="175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I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Z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1758960"/>
            <a:ext cx="3475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53880" y="249120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ULNER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440880"/>
            <a:ext cx="5184720" cy="173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u de perda para um dado elemento ou grupo dentro de uma área afetada por um 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1708200"/>
            <a:ext cx="3475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43280" y="1341360"/>
            <a:ext cx="3475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2781360"/>
            <a:ext cx="6476760" cy="283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 a potencialidade de ocorrência de processos naturais e induzidos em áreas de interesse ao uso do solo, expressando a suscetibilidade segundo classes de probabilidade de ocor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8400" y="20448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SCET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1712880"/>
            <a:ext cx="3475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4320" y="25498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204000"/>
            <a:ext cx="655308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dade de ocorrer um efeito adverso de um processo sobre um elemento. Relação entre perigo e vulnerabilidade pressupondo sempre a per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43200" y="685800"/>
            <a:ext cx="3475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7680" y="137052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ÁREA DE R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914480"/>
            <a:ext cx="655308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 passível de ser atingida por processos naturais e/ou induzidos que causem efeito adverso. As pessoas que habitam essas áreas estão sujeitas a danos à integridade física, perdas materiais e patrimoniais. Normalmente, essas áreas correspondem a núcleos habitacionais de baixa renda (assentamentos precá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22:10:56Z</dcterms:created>
  <dc:creator>Eduardo Macedo</dc:creator>
  <dc:description/>
  <dc:language>en-US</dc:language>
  <cp:lastModifiedBy>Luis Celso Coutinho</cp:lastModifiedBy>
  <dcterms:modified xsi:type="dcterms:W3CDTF">2004-12-20T11:06:51Z</dcterms:modified>
  <cp:revision>6</cp:revision>
  <dc:subject/>
  <dc:title>Apresentação do PowerPoint</dc:title>
</cp:coreProperties>
</file>