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81840" y="637056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 </a:t>
            </a:r>
            <a:fld id="{ACB8A831-08C6-40CE-BBCC-77E03B91E0A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6858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ODELO DE ABORDAGEM DA UN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11430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MEDIDAS DE PREVENÇÃO DE ACI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00200"/>
            <a:ext cx="8534520" cy="51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RUTU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296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ras de contenção, drenagem, proteção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296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urb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296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ocação de moradias e popu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ÃO-ESTRUTU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296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ejamento urb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296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tas geotécnicas e de r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296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os Preventivos de Defesa 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296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is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7296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ção e capaci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0920" y="1052640"/>
            <a:ext cx="8610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ODELO DE ABORDAGEM DA UN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59040" y="1989000"/>
            <a:ext cx="544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ENDIMENTOS EMERGEN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751120"/>
            <a:ext cx="86756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ação da fenomenologia preliminar, causas, evolução, área de imp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imitação da área de risco para remoção da popu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ras emergen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entação do res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de monitoramento da á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endações para o retorno da popu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157320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ODELO DE ABORDAGEM DA UN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2411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ÇÕES PÚBLICAS E TREI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3121200"/>
            <a:ext cx="70866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sos, palestras, seminários, reuni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caçõe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tilhas, folders, carta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92280"/>
            <a:ext cx="86104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ENÁRIO POLÍTICO E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452600"/>
            <a:ext cx="838224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DENTIFICAÇÃO DO CEN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rise econômica e social com solução de longo praz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lítica habitacional para baixa renda historicamente ineficie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eficácia dos sistemas de controle do uso e ocup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xistência de legislação adequada para as áreas suscetíve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xistência de apoio técnico para as populaçõ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ltura popular de “morar no plano”.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74600" y="5734080"/>
            <a:ext cx="7056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MENTO DO NÚMERO DE ÁREAS DE R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9000" y="4724280"/>
            <a:ext cx="576360" cy="865440"/>
          </a:xfrm>
          <a:prstGeom prst="downArrow">
            <a:avLst>
              <a:gd name="adj1" fmla="val 50000"/>
              <a:gd name="adj2" fmla="val 3753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03640" y="4941720"/>
            <a:ext cx="2160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692280"/>
            <a:ext cx="86104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ENÁRIO POLÍTICO E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557360"/>
            <a:ext cx="8367840" cy="456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LU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ara REDUZIR/MINIMIZAR 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indo sobre o proces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indo sobre a conseqüê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ara EVITAR a formação de áreas de ris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role do uso do so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ara CONVIVER com 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nos de contingê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79520" y="914400"/>
            <a:ext cx="86104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99"/>
                </a:solidFill>
                <a:latin typeface="Arial"/>
              </a:rPr>
              <a:t>ESTATÍSTICA DE VÍTIMAS POR ESCORREG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Fonte: Banco de Dados do IP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8725" t="0" r="5654" b="4129"/>
          <a:stretch/>
        </p:blipFill>
        <p:spPr>
          <a:xfrm>
            <a:off x="457200" y="1905120"/>
            <a:ext cx="8153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177336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PERGUNTAS BÁ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7040" y="2610000"/>
            <a:ext cx="8077320" cy="26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O QUE  E COMO OCORRE: Process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ONDE OCORREM OS PROBLEMAS : Mape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QUANDO OCORREM OS PROBLEMAS: Correlação, monitor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QUE FAZER: medidas estruturais e não-estrutu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2600" y="83664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UND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841760"/>
            <a:ext cx="5273640" cy="2228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ilidade de identificação das áreas de risco com a indicação dos locais onde poderão ocorrer acidentes (definição espacial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estabelecimento das condições e circunstâncias para a ocorrência dos processos (definição temporal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51352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 R E V I S Ã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189680"/>
            <a:ext cx="5257800" cy="1923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ilidade de serem adotadas medidas preventivas visando, ou inibir a ocorrência dos processos, ou reduzir suas magnitudes, ou ainda minimizar seus impactos, agindo diretamente sobre edificações e/ou a própria popul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72320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 R E V E N Ç Ã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112536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ODELO DE ABORDAGEM DA UN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2670120"/>
            <a:ext cx="70866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Identificação dos r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Análise dos r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Medidas de preve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Planejamento para situações de emerg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Informações públicas e trei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06064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RO - (Office of the United Nations Disasters Relief Co-Ordin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176832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ODELO DE ABORDAGEM DA UN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9907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DRO - (Office of the United Nations Disasters Relief Co-Ordina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2809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IDENTIFICAÇÃO DOS R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36482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é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ndimento do pro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1157400"/>
            <a:ext cx="8610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MODELO DE ABORDAGEM DA UN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23004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ANÁLISE DE R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3157560"/>
            <a:ext cx="6553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icação: relativa e/ou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neamento de r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astramento de risc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ificação dos graus de r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ta de r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19:02:49Z</dcterms:created>
  <dc:creator>Eduardo Macedo</dc:creator>
  <dc:description/>
  <dc:language>en-US</dc:language>
  <cp:lastModifiedBy>Luis Celso Coutinho</cp:lastModifiedBy>
  <dcterms:modified xsi:type="dcterms:W3CDTF">2004-12-20T11:00:06Z</dcterms:modified>
  <cp:revision>21</cp:revision>
  <dc:subject/>
  <dc:title>Apresentação do PowerPoint</dc:title>
</cp:coreProperties>
</file>