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3E8-1F42-46E8-AC1F-3EA7BDEFF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AAA-87B8-450C-A25C-C8BFD53F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D27-A970-436C-97C6-BC8DD6EB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B63-5C92-42C4-AF6E-EF844801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709-E046-4ED1-994B-98C2ABFC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355E-6618-4FF9-98FA-87F6A8E2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698-D974-4DE2-9580-C4F9C20C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604-80C2-4C5E-AA94-7FC2D342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F06-63BF-42B9-818C-ABE0A400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B0D4-43F9-47A5-A1B7-D2289894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6C9-CC9A-4B54-BD5E-9386EDE8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A2B9-9C96-45BC-A223-083821C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C96C-DEFD-452C-87B1-3D8E52F587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53600" y="638172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Slide  </a:t>
            </a:r>
            <a:fld id="{1E060A04-BBBC-447B-8341-68BDB756119D}" type="slidenum">
              <a:rPr b="1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52280" r="23927" b="0"/>
          <a:stretch/>
        </p:blipFill>
        <p:spPr>
          <a:xfrm>
            <a:off x="5024520" y="1270080"/>
            <a:ext cx="4952880" cy="452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0" t="0" r="37148" b="48883"/>
          <a:stretch/>
        </p:blipFill>
        <p:spPr>
          <a:xfrm>
            <a:off x="776160" y="1486080"/>
            <a:ext cx="4135680" cy="4895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77960" y="398520"/>
            <a:ext cx="47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PES PARA O TRABALHO DE CA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grayscl/>
          </a:blip>
          <a:srcRect l="0" t="0" r="1714" b="0"/>
          <a:stretch/>
        </p:blipFill>
        <p:spPr>
          <a:xfrm>
            <a:off x="2289240" y="309600"/>
            <a:ext cx="3922560" cy="6237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6537240" y="134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A DAS RUAS, JARDIM ZAÍRA (MAU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715200">
            <a:off x="4276080" y="1387440"/>
            <a:ext cx="719280" cy="826920"/>
          </a:xfrm>
          <a:custGeom>
            <a:avLst/>
            <a:gdLst/>
            <a:ahLst/>
            <a:rect l="l" t="t" r="r" b="b"/>
            <a:pathLst>
              <a:path w="2364" h="3091">
                <a:moveTo>
                  <a:pt x="1664" y="2954"/>
                </a:moveTo>
                <a:lnTo>
                  <a:pt x="1584" y="3091"/>
                </a:lnTo>
                <a:lnTo>
                  <a:pt x="1251" y="2959"/>
                </a:lnTo>
                <a:lnTo>
                  <a:pt x="1152" y="2932"/>
                </a:lnTo>
                <a:lnTo>
                  <a:pt x="936" y="2911"/>
                </a:lnTo>
                <a:lnTo>
                  <a:pt x="728" y="2878"/>
                </a:lnTo>
                <a:lnTo>
                  <a:pt x="492" y="2863"/>
                </a:lnTo>
                <a:lnTo>
                  <a:pt x="366" y="2827"/>
                </a:lnTo>
                <a:lnTo>
                  <a:pt x="291" y="2764"/>
                </a:lnTo>
                <a:lnTo>
                  <a:pt x="225" y="2731"/>
                </a:lnTo>
                <a:lnTo>
                  <a:pt x="162" y="2647"/>
                </a:lnTo>
                <a:lnTo>
                  <a:pt x="117" y="2488"/>
                </a:lnTo>
                <a:lnTo>
                  <a:pt x="36" y="2299"/>
                </a:lnTo>
                <a:lnTo>
                  <a:pt x="6" y="2197"/>
                </a:lnTo>
                <a:lnTo>
                  <a:pt x="0" y="2002"/>
                </a:lnTo>
                <a:lnTo>
                  <a:pt x="27" y="1945"/>
                </a:lnTo>
                <a:lnTo>
                  <a:pt x="176" y="1964"/>
                </a:lnTo>
                <a:lnTo>
                  <a:pt x="560" y="1436"/>
                </a:lnTo>
                <a:lnTo>
                  <a:pt x="760" y="1206"/>
                </a:lnTo>
                <a:lnTo>
                  <a:pt x="1010" y="912"/>
                </a:lnTo>
                <a:lnTo>
                  <a:pt x="1088" y="778"/>
                </a:lnTo>
                <a:lnTo>
                  <a:pt x="1130" y="694"/>
                </a:lnTo>
                <a:lnTo>
                  <a:pt x="1150" y="590"/>
                </a:lnTo>
                <a:lnTo>
                  <a:pt x="1158" y="518"/>
                </a:lnTo>
                <a:lnTo>
                  <a:pt x="1174" y="458"/>
                </a:lnTo>
                <a:lnTo>
                  <a:pt x="1228" y="422"/>
                </a:lnTo>
                <a:lnTo>
                  <a:pt x="1300" y="398"/>
                </a:lnTo>
                <a:lnTo>
                  <a:pt x="1386" y="366"/>
                </a:lnTo>
                <a:lnTo>
                  <a:pt x="1476" y="326"/>
                </a:lnTo>
                <a:lnTo>
                  <a:pt x="1588" y="258"/>
                </a:lnTo>
                <a:lnTo>
                  <a:pt x="1694" y="184"/>
                </a:lnTo>
                <a:lnTo>
                  <a:pt x="1808" y="128"/>
                </a:lnTo>
                <a:lnTo>
                  <a:pt x="2066" y="8"/>
                </a:lnTo>
                <a:lnTo>
                  <a:pt x="2116" y="0"/>
                </a:lnTo>
                <a:lnTo>
                  <a:pt x="2148" y="22"/>
                </a:lnTo>
                <a:lnTo>
                  <a:pt x="2214" y="114"/>
                </a:lnTo>
                <a:lnTo>
                  <a:pt x="2222" y="172"/>
                </a:lnTo>
                <a:lnTo>
                  <a:pt x="2214" y="224"/>
                </a:lnTo>
                <a:lnTo>
                  <a:pt x="2192" y="288"/>
                </a:lnTo>
                <a:lnTo>
                  <a:pt x="2156" y="384"/>
                </a:lnTo>
                <a:lnTo>
                  <a:pt x="2130" y="467"/>
                </a:lnTo>
                <a:lnTo>
                  <a:pt x="2120" y="561"/>
                </a:lnTo>
                <a:lnTo>
                  <a:pt x="2130" y="737"/>
                </a:lnTo>
                <a:lnTo>
                  <a:pt x="2198" y="1127"/>
                </a:lnTo>
                <a:lnTo>
                  <a:pt x="2256" y="1347"/>
                </a:lnTo>
                <a:lnTo>
                  <a:pt x="2302" y="1455"/>
                </a:lnTo>
                <a:lnTo>
                  <a:pt x="2318" y="1512"/>
                </a:lnTo>
                <a:lnTo>
                  <a:pt x="2348" y="1826"/>
                </a:lnTo>
                <a:lnTo>
                  <a:pt x="2344" y="1962"/>
                </a:lnTo>
                <a:lnTo>
                  <a:pt x="2342" y="2088"/>
                </a:lnTo>
                <a:lnTo>
                  <a:pt x="2344" y="2228"/>
                </a:lnTo>
                <a:lnTo>
                  <a:pt x="2364" y="2368"/>
                </a:lnTo>
                <a:lnTo>
                  <a:pt x="2280" y="2356"/>
                </a:lnTo>
                <a:lnTo>
                  <a:pt x="2134" y="2350"/>
                </a:lnTo>
                <a:lnTo>
                  <a:pt x="2068" y="2360"/>
                </a:lnTo>
                <a:lnTo>
                  <a:pt x="1664" y="2954"/>
                </a:lnTo>
                <a:close/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20880" y="706320"/>
            <a:ext cx="5681520" cy="5602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897600" y="1492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TOGRAFIA AÉREA, JARDIM ZAÍRA (MAU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00160" y="6237360"/>
            <a:ext cx="216000" cy="216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66cc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000160" y="549360"/>
            <a:ext cx="4486320" cy="4680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00160" y="5300640"/>
            <a:ext cx="44658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76640" y="6194520"/>
            <a:ext cx="175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ÁREA DE ESTU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73280" y="2349360"/>
            <a:ext cx="216000" cy="2160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0066cc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24520" y="1341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A GEOLÓGICO, JARDIM ZAÍRA (MAU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08160" y="125280"/>
            <a:ext cx="6913440" cy="660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360520" y="1341360"/>
            <a:ext cx="3753000" cy="4907160"/>
          </a:xfrm>
          <a:custGeom>
            <a:avLst/>
            <a:gdLst/>
            <a:ahLst/>
            <a:rect l="l" t="t" r="r" b="b"/>
            <a:pathLst>
              <a:path w="2364" h="3091">
                <a:moveTo>
                  <a:pt x="1664" y="2954"/>
                </a:moveTo>
                <a:lnTo>
                  <a:pt x="1584" y="3091"/>
                </a:lnTo>
                <a:lnTo>
                  <a:pt x="1251" y="2959"/>
                </a:lnTo>
                <a:lnTo>
                  <a:pt x="1152" y="2932"/>
                </a:lnTo>
                <a:lnTo>
                  <a:pt x="936" y="2911"/>
                </a:lnTo>
                <a:lnTo>
                  <a:pt x="728" y="2878"/>
                </a:lnTo>
                <a:lnTo>
                  <a:pt x="492" y="2863"/>
                </a:lnTo>
                <a:lnTo>
                  <a:pt x="366" y="2827"/>
                </a:lnTo>
                <a:lnTo>
                  <a:pt x="291" y="2764"/>
                </a:lnTo>
                <a:lnTo>
                  <a:pt x="225" y="2731"/>
                </a:lnTo>
                <a:lnTo>
                  <a:pt x="162" y="2647"/>
                </a:lnTo>
                <a:lnTo>
                  <a:pt x="117" y="2488"/>
                </a:lnTo>
                <a:lnTo>
                  <a:pt x="36" y="2299"/>
                </a:lnTo>
                <a:lnTo>
                  <a:pt x="6" y="2197"/>
                </a:lnTo>
                <a:lnTo>
                  <a:pt x="0" y="2002"/>
                </a:lnTo>
                <a:lnTo>
                  <a:pt x="27" y="1945"/>
                </a:lnTo>
                <a:lnTo>
                  <a:pt x="176" y="1964"/>
                </a:lnTo>
                <a:lnTo>
                  <a:pt x="560" y="1436"/>
                </a:lnTo>
                <a:lnTo>
                  <a:pt x="760" y="1206"/>
                </a:lnTo>
                <a:lnTo>
                  <a:pt x="1010" y="912"/>
                </a:lnTo>
                <a:lnTo>
                  <a:pt x="1088" y="778"/>
                </a:lnTo>
                <a:lnTo>
                  <a:pt x="1130" y="694"/>
                </a:lnTo>
                <a:lnTo>
                  <a:pt x="1150" y="590"/>
                </a:lnTo>
                <a:lnTo>
                  <a:pt x="1158" y="518"/>
                </a:lnTo>
                <a:lnTo>
                  <a:pt x="1174" y="458"/>
                </a:lnTo>
                <a:lnTo>
                  <a:pt x="1228" y="422"/>
                </a:lnTo>
                <a:lnTo>
                  <a:pt x="1300" y="398"/>
                </a:lnTo>
                <a:lnTo>
                  <a:pt x="1386" y="366"/>
                </a:lnTo>
                <a:lnTo>
                  <a:pt x="1476" y="326"/>
                </a:lnTo>
                <a:lnTo>
                  <a:pt x="1588" y="258"/>
                </a:lnTo>
                <a:lnTo>
                  <a:pt x="1694" y="184"/>
                </a:lnTo>
                <a:lnTo>
                  <a:pt x="1808" y="128"/>
                </a:lnTo>
                <a:lnTo>
                  <a:pt x="2066" y="8"/>
                </a:lnTo>
                <a:lnTo>
                  <a:pt x="2116" y="0"/>
                </a:lnTo>
                <a:lnTo>
                  <a:pt x="2148" y="22"/>
                </a:lnTo>
                <a:lnTo>
                  <a:pt x="2214" y="114"/>
                </a:lnTo>
                <a:lnTo>
                  <a:pt x="2222" y="172"/>
                </a:lnTo>
                <a:lnTo>
                  <a:pt x="2214" y="224"/>
                </a:lnTo>
                <a:lnTo>
                  <a:pt x="2192" y="288"/>
                </a:lnTo>
                <a:lnTo>
                  <a:pt x="2156" y="384"/>
                </a:lnTo>
                <a:lnTo>
                  <a:pt x="2130" y="467"/>
                </a:lnTo>
                <a:lnTo>
                  <a:pt x="2120" y="561"/>
                </a:lnTo>
                <a:lnTo>
                  <a:pt x="2130" y="737"/>
                </a:lnTo>
                <a:lnTo>
                  <a:pt x="2198" y="1127"/>
                </a:lnTo>
                <a:lnTo>
                  <a:pt x="2256" y="1347"/>
                </a:lnTo>
                <a:lnTo>
                  <a:pt x="2302" y="1455"/>
                </a:lnTo>
                <a:lnTo>
                  <a:pt x="2318" y="1512"/>
                </a:lnTo>
                <a:lnTo>
                  <a:pt x="2348" y="1826"/>
                </a:lnTo>
                <a:lnTo>
                  <a:pt x="2344" y="1962"/>
                </a:lnTo>
                <a:lnTo>
                  <a:pt x="2342" y="2088"/>
                </a:lnTo>
                <a:lnTo>
                  <a:pt x="2344" y="2228"/>
                </a:lnTo>
                <a:lnTo>
                  <a:pt x="2364" y="2368"/>
                </a:lnTo>
                <a:lnTo>
                  <a:pt x="2280" y="2356"/>
                </a:lnTo>
                <a:lnTo>
                  <a:pt x="2134" y="2350"/>
                </a:lnTo>
                <a:lnTo>
                  <a:pt x="2068" y="2360"/>
                </a:lnTo>
                <a:lnTo>
                  <a:pt x="1664" y="2954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529240" y="6383160"/>
            <a:ext cx="2459160" cy="276480"/>
            <a:chOff x="5529240" y="6383160"/>
            <a:chExt cx="2459160" cy="276480"/>
          </a:xfrm>
        </p:grpSpPr>
        <p:sp>
          <p:nvSpPr>
            <p:cNvPr id="59" name=""/>
            <p:cNvSpPr/>
            <p:nvPr/>
          </p:nvSpPr>
          <p:spPr>
            <a:xfrm>
              <a:off x="5529240" y="6442200"/>
              <a:ext cx="414360" cy="161640"/>
            </a:xfrm>
            <a:custGeom>
              <a:avLst/>
              <a:gdLst/>
              <a:ahLst/>
              <a:rect l="l" t="t" r="r" b="b"/>
              <a:pathLst>
                <a:path w="261" h="102">
                  <a:moveTo>
                    <a:pt x="0" y="102"/>
                  </a:moveTo>
                  <a:lnTo>
                    <a:pt x="93" y="3"/>
                  </a:lnTo>
                  <a:lnTo>
                    <a:pt x="171" y="94"/>
                  </a:lnTo>
                  <a:lnTo>
                    <a:pt x="261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91120" y="6383160"/>
              <a:ext cx="1997280" cy="27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mite da Área de estu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93720" y="620640"/>
            <a:ext cx="6718320" cy="5038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360520" y="609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TA GERAL DO JARDIM ZAÍRA, MAU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93720" y="620640"/>
            <a:ext cx="6718320" cy="5038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360520" y="609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TA GERAL DO JARDIM ZAÍRA, MAU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17:49:53Z</dcterms:created>
  <dc:creator>Luis Celso</dc:creator>
  <dc:description/>
  <dc:language>en-US</dc:language>
  <cp:lastModifiedBy>AlvaroRV</cp:lastModifiedBy>
  <dcterms:modified xsi:type="dcterms:W3CDTF">2005-01-27T16:51:26Z</dcterms:modified>
  <cp:revision>15</cp:revision>
  <dc:subject/>
  <dc:title>Slide 1</dc:title>
</cp:coreProperties>
</file>