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AAE-9B9C-495E-AFBB-8FFDD7AD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A29-8B8D-437E-B714-F687356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9E0-A8DF-495D-BDF6-BB4662A1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2A4-8276-4C18-8022-E3D8E19D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A18-86AD-470D-A76B-0140AD2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C96-BEC2-490E-8B6F-6B6B3AA3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8D3-4A92-4431-9373-D9A84594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E16-AB54-47DB-AF0B-CDD64F8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D1D-14E9-4EA4-A792-1C5C2223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12C-4F38-4483-ADD1-7D28A14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800-C1AA-483A-B486-FC6A04D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8FC-95A6-4BFE-8CC5-D2DD2F8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56360" y="6381720"/>
            <a:ext cx="9680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 </a:t>
            </a:r>
            <a:fld id="{49A69C81-0419-4D08-9781-03FC4DCCAEF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4C6-21DC-4D4B-97CE-BC681457DF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ÚBLICO-AL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048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s municipais envolvidos com o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A5B-E5F6-4343-86C5-4FBB6C29E3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r os técnicos municipais para realizar o mapeamento e o gerenciamento de áreas de risco sujeitas a escorregamentos, enchentes e inundaçõ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ar o mapeamento das áreas de risco de escorregamentos em seus municípios bem como preparados para elaborar o sistema de gerenciamento de áreas de ri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388-190B-4E8C-97A8-A76FD51097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2416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IÇÕES ENVOLV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90920" y="3962520"/>
            <a:ext cx="3962160" cy="838080"/>
            <a:chOff x="2590920" y="3962520"/>
            <a:chExt cx="3962160" cy="838080"/>
          </a:xfrm>
        </p:grpSpPr>
        <p:sp>
          <p:nvSpPr>
            <p:cNvPr id="50" name=""/>
            <p:cNvSpPr/>
            <p:nvPr/>
          </p:nvSpPr>
          <p:spPr>
            <a:xfrm>
              <a:off x="2590920" y="3962520"/>
              <a:ext cx="396216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666880" y="4038840"/>
              <a:ext cx="3809520" cy="69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3465360" cy="920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D56-7E7B-4695-93DA-8923927CC8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95480" y="1828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.11 - Segunda-f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32280"/>
            <a:ext cx="8229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 de Prevenção e Erradicação de Riscos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ntamentos Precário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Ministério das C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Introdução ao Gerenciamento de áreas de r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Conceitos básicos de risco e de áreas de r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Identificação, análise e mapeamento de áreas de risco de escorregam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 algn="just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pologia, cenários, indicadores, 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51D-C87F-4939-B5C1-FB50C1CA3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1808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.11 - Terça-f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179880"/>
            <a:ext cx="792504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teiro metodológico para análise de risco e mapeamento de áreas de risco em setores de encosta e de baix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3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ção, análise e mapeamento de áreas de risco de enchentes e inunda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229-EB48-4C8E-8C25-9416467927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86280" y="18255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11 - Quarta-f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505320"/>
            <a:ext cx="6096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ciamento de Áreas de r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Preventivo de Defesa Civ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ção ao treinamento de ca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EFC-2A82-40F8-BDB9-3355AA32A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86280" y="18320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11 - Quinta-f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290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prático de campo em área de risco de escorregam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88F-16F4-49A4-8E96-6EE0B48A04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62240" y="1828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11 - Sexta-f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960" y="335268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balhos de escritório para sistematização dos dados do mapeamento e cadastro de morad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balhos de escritório para montagem do PPD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ões finais e fechamento do cur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523880"/>
            <a:ext cx="670536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03E-997C-462D-B936-92FCDE9109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0:59:14Z</dcterms:created>
  <dc:creator>Eduardo Macedo</dc:creator>
  <dc:description/>
  <dc:language>en-US</dc:language>
  <cp:lastModifiedBy>AlvaroRV</cp:lastModifiedBy>
  <dcterms:modified xsi:type="dcterms:W3CDTF">2005-01-27T16:47:03Z</dcterms:modified>
  <cp:revision>14</cp:revision>
  <dc:subject/>
  <dc:title>Apresentação do PowerPoint</dc:title>
</cp:coreProperties>
</file>